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A0E-4226-4882-9589-1FE46486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228D-BD77-4D35-AF6E-016F68E8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D25-829E-44BB-A18E-74D105DA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F5F-DD37-4AEB-A98B-DE14C368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8220-D63F-4A4B-B1B4-B97D144A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2E4-64BA-421E-BAE9-FB73EBA8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752-0CEF-404F-8B1D-30CAA412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FCE-00F7-42BC-90E6-179E1F4C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D4E-EE18-45F1-BC96-13CAB597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256-AD61-48D9-AB45-748EDDE4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F74-8E21-4402-B3CF-4553C697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652-E994-4495-859A-CFEB3ED5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13E0-DD33-4674-99F5-E27AD2CE5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ramainnature.com/photograph_of_sun_smoke_idaho_2000_poster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haffy.org/lightning/lightning000225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Looking at l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544464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Cameron brown and Dylan Tay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FireSunIdahothumb.JPG (304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41360"/>
            <a:ext cx="8964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 Black"/>
              </a:rPr>
              <a:t>Light Fa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71391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lets us see things around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different ways of making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travels in straight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travels faster than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Lets us see in dark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travels 300 million metres every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tebulb"/>
          <p:cNvSpPr/>
          <p:nvPr/>
        </p:nvSpPr>
        <p:spPr>
          <a:xfrm>
            <a:off x="6283440" y="2276640"/>
            <a:ext cx="2860560" cy="3206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Light and shadow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the materials let light go straight through them( like glass) they are called trans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some materials do not let a lot of light through them they are transluc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some materials don’t let any light through them .they are opaque . Opaque  materials make sha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484280"/>
            <a:ext cx="3606840" cy="215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eing col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materials reflect when the light shines on them. (Absorb the rest of the 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en objects reflect green light when you shine a torch on it and White objects reflect all the colours when you shine a torch on it Black objects do not shine any colou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3:10Z</dcterms:created>
  <dc:creator>taylordy</dc:creator>
  <dc:description/>
  <dc:language>en-US</dc:language>
  <cp:lastModifiedBy>taylordy</cp:lastModifiedBy>
  <dcterms:modified xsi:type="dcterms:W3CDTF">2006-01-25T12:43:44Z</dcterms:modified>
  <cp:revision>6</cp:revision>
  <dc:subject/>
  <dc:title>Looking at light</dc:title>
</cp:coreProperties>
</file>